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4.wmf" ContentType="image/x-wmf"/>
  <Override PartName="/ppt/media/image2.png" ContentType="image/png"/>
  <Override PartName="/ppt/media/image3.png" ContentType="image/png"/>
  <Override PartName="/ppt/media/image6.jpeg" ContentType="image/jpeg"/>
  <Override PartName="/ppt/media/image12.wmf" ContentType="image/x-wmf"/>
  <Override PartName="/ppt/media/image8.wmf" ContentType="image/x-wmf"/>
  <Override PartName="/ppt/media/image13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AFA-BF54-47F0-86C3-20A45CE5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051-3749-4DDC-A03D-FB7F2F64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639D-D744-40A1-B8D3-3A9A4BA2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A2D1-F16C-45E5-9B1D-9D0FB16B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66D8-9759-4C25-9384-E3B6059C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7CE9-3456-42C8-A340-77CB80F3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3348-B0DD-442F-90E1-39E7845C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192D-DADC-46F1-9055-39C34F2A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5F79-AC55-4A95-AD82-9F775AA9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7D38-BDDB-4FFD-8467-A575EB2D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3509-7A42-479F-8539-8F6E8676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4959-F9CF-4161-8B6D-8C94A01D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FF5F-92D2-40DC-B0DB-9BD79D53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ADAF-2E6A-4A30-B667-EE4D477A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C37B-0EFA-45EB-BD7F-A7B02B5E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CEA4-78B9-4243-B8A2-0AAC0270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E50D-9AFF-45BD-B3A4-4DF4C255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E8F-F8A7-4827-B7F0-1CF49133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977-7AE4-4439-B51D-1789F3E2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092A-BF8A-4829-91B1-11D58290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BB88-F8A8-4EE9-8687-C2FE830A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C131-D594-4391-9CD7-207320ED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7F7-3D5C-4BE9-AF90-4FE52258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092D-3F2D-4427-9172-F7B671C0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F3E3-634D-4C91-B143-3838BA623DDF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6F58-ECAD-4C75-844D-A1E3FC17D3E3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566640" y="92160"/>
            <a:ext cx="7785360" cy="1882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57200" y="1928880"/>
            <a:ext cx="640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Elec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410082"/>
                </a:solidFill>
                <a:uFillTx/>
                <a:latin typeface="Book Antiqua"/>
                <a:hlinkClick r:id="rId3" action="ppaction://hlinksldjump"/>
              </a:rPr>
              <a:t>Aye</a:t>
            </a:r>
            <a:r>
              <a:rPr b="0" lang="en-A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410082"/>
                </a:solidFill>
                <a:uFillTx/>
                <a:latin typeface="Book Antiqua"/>
                <a:hlinkClick r:id="rId4" action="ppaction://hlinksldjump"/>
              </a:rPr>
              <a:t>By-law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410082"/>
                </a:solidFill>
                <a:uFillTx/>
                <a:latin typeface="Book Antiqua"/>
                <a:hlinkClick r:id="rId5" action="ppaction://hlinksldjump"/>
              </a:rPr>
              <a:t>Vot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410082"/>
                </a:solidFill>
                <a:uFillTx/>
                <a:latin typeface="Book Antiqua"/>
                <a:hlinkClick r:id="rId6" action="ppaction://hlinksldjump"/>
              </a:rPr>
              <a:t>Quee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410082"/>
                </a:solidFill>
                <a:uFillTx/>
                <a:latin typeface="Book Antiqua"/>
                <a:hlinkClick r:id="rId7" action="ppaction://hlinksldjump"/>
              </a:rPr>
              <a:t>Bil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410082"/>
                </a:solidFill>
                <a:uFillTx/>
                <a:latin typeface="Book Antiqua"/>
                <a:hlinkClick r:id="rId8" action="ppaction://hlinksldjump"/>
              </a:rPr>
              <a:t>Law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Book Antiqua"/>
              </a:rPr>
              <a:t>End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4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n election is when a person or government is chosen by voting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Rules and Laws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4" descr="C:\Program Files\Microsoft Office\Media\CntCD1\ClipArt1\j0186152.wmf"/>
          <p:cNvPicPr/>
          <p:nvPr/>
        </p:nvPicPr>
        <p:blipFill>
          <a:blip r:embed="rId2"/>
          <a:stretch/>
        </p:blipFill>
        <p:spPr>
          <a:xfrm>
            <a:off x="4143240" y="3000240"/>
            <a:ext cx="350064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4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481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ye is the word used for voting ‘yes’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Rules and Laws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4" descr="d:\Users\thomasr.STAWELL-PS\AppData\Local\Microsoft\Windows\Temporary Internet Files\Content.IE5\43U4ZKB8\MPj04424960000[1].jpg"/>
          <p:cNvPicPr/>
          <p:nvPr/>
        </p:nvPicPr>
        <p:blipFill>
          <a:blip r:embed="rId2"/>
          <a:stretch/>
        </p:blipFill>
        <p:spPr>
          <a:xfrm>
            <a:off x="5143680" y="2928960"/>
            <a:ext cx="30906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4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by-law is a local government rule or regul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Rules and Laws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Picture 4" descr="d:\Users\thomasr.STAWELL-PS\AppData\Local\Microsoft\Windows\Temporary Internet Files\Content.IE5\OE7ZDH5S\MCj04298110000[1].wmf"/>
          <p:cNvPicPr/>
          <p:nvPr/>
        </p:nvPicPr>
        <p:blipFill>
          <a:blip r:embed="rId2"/>
          <a:stretch/>
        </p:blipFill>
        <p:spPr>
          <a:xfrm>
            <a:off x="4572000" y="2786040"/>
            <a:ext cx="347040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4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481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vote is a formal expression of a choic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Rules and Laws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4" descr="d:\Users\thomasr.STAWELL-PS\AppData\Local\Microsoft\Windows\Temporary Internet Files\Content.IE5\LQSWZ4PS\MPj03847260000[1].jpg"/>
          <p:cNvPicPr/>
          <p:nvPr/>
        </p:nvPicPr>
        <p:blipFill>
          <a:blip r:embed="rId2"/>
          <a:stretch/>
        </p:blipFill>
        <p:spPr>
          <a:xfrm>
            <a:off x="5286240" y="2857680"/>
            <a:ext cx="30560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4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481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he Queen is australia’s head of state , since  1973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Rules and Laws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4" descr="d:\Users\thomasr.STAWELL-PS\AppData\Local\Microsoft\Windows\Temporary Internet Files\Content.IE5\LQSWZ4PS\MCj01161340000[1].wmf"/>
          <p:cNvPicPr/>
          <p:nvPr/>
        </p:nvPicPr>
        <p:blipFill>
          <a:blip r:embed="rId2"/>
          <a:stretch/>
        </p:blipFill>
        <p:spPr>
          <a:xfrm>
            <a:off x="5429160" y="2484360"/>
            <a:ext cx="25718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4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481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bill is a proposal for a new law or to modify an existing law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Rules and Laws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9040" indent="-3823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Picture 4" descr="C:\Program Files\Microsoft Office\Media\CntCD1\ClipArt2\j0231084.wmf"/>
          <p:cNvPicPr/>
          <p:nvPr/>
        </p:nvPicPr>
        <p:blipFill>
          <a:blip r:embed="rId2"/>
          <a:stretch/>
        </p:blipFill>
        <p:spPr>
          <a:xfrm>
            <a:off x="4357800" y="2786040"/>
            <a:ext cx="415908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4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481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law is a rule or set of rules recognised by society as bind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Rules and Laws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Picture 4" descr="d:\Users\thomasr.STAWELL-PS\AppData\Local\Microsoft\Windows\Temporary Internet Files\Content.IE5\OE7ZDH5S\MCj04380060000[1].wmf"/>
          <p:cNvPicPr/>
          <p:nvPr/>
        </p:nvPicPr>
        <p:blipFill>
          <a:blip r:embed="rId2"/>
          <a:stretch/>
        </p:blipFill>
        <p:spPr>
          <a:xfrm>
            <a:off x="4786200" y="2500200"/>
            <a:ext cx="37864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4" descr=""/>
          <p:cNvPicPr/>
          <p:nvPr/>
        </p:nvPicPr>
        <p:blipFill>
          <a:blip r:embed="rId1"/>
          <a:stretch/>
        </p:blipFill>
        <p:spPr>
          <a:xfrm>
            <a:off x="420840" y="-55440"/>
            <a:ext cx="824220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76120" y="1488600"/>
            <a:ext cx="822960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Rules and Laws 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2" descr="d:\Users\thomasr.STAWELL-PS\AppData\Local\Microsoft\Windows\Temporary Internet Files\Content.IE5\L3S4EK1T\MCj04398410000[1].wmf"/>
          <p:cNvPicPr/>
          <p:nvPr/>
        </p:nvPicPr>
        <p:blipFill>
          <a:blip r:embed="rId2"/>
          <a:stretch/>
        </p:blipFill>
        <p:spPr>
          <a:xfrm>
            <a:off x="1000080" y="1785960"/>
            <a:ext cx="62150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22:31:17Z</dcterms:created>
  <dc:creator>Education</dc:creator>
  <dc:description/>
  <dc:language>en-US</dc:language>
  <cp:lastModifiedBy>Education</cp:lastModifiedBy>
  <dcterms:modified xsi:type="dcterms:W3CDTF">2009-10-27T23:37:50Z</dcterms:modified>
  <cp:revision>13</cp:revision>
  <dc:subject/>
  <dc:title>Rules and Laws glossary</dc:title>
</cp:coreProperties>
</file>